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F90-34CC-4D52-98E6-785E3A89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C02-8A1A-432C-A226-34954653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CE0-4C5F-4975-8EDA-C292B7C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0E9-C098-4DE2-9DB6-621344B7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695-FC1D-47DE-A7BB-0B5D13EA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A6C-6AA5-4777-AB29-D68B9102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FD9-A9C9-4983-A4EB-06FE9AAF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FBC-7A7A-4024-95D0-5BDD270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7EB-79B8-4226-AD9E-6A71CF7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D21-016F-434B-8D0B-5744C43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0D2-BAF7-411C-A755-49FE231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54F-B260-43D6-93A6-C05B186B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787-0014-4F58-B5BC-11C4BE00C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468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826920" y="14940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Литературное чтение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3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9" descr=""/>
          <p:cNvPicPr/>
          <p:nvPr/>
        </p:nvPicPr>
        <p:blipFill>
          <a:blip r:embed="rId1"/>
          <a:stretch/>
        </p:blipFill>
        <p:spPr>
          <a:xfrm>
            <a:off x="-49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3964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еренький, как мыш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Юркий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лазки , как бусинки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леньки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Прямая со стрелкой 6"/>
          <p:cNvCxnSpPr/>
          <p:nvPr/>
        </p:nvCxnSpPr>
        <p:spPr>
          <a:xfrm>
            <a:off x="6636960" y="4292640"/>
            <a:ext cx="11754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/>
          <p:nvPr/>
        </p:nvCxnSpPr>
        <p:spPr>
          <a:xfrm flipH="1">
            <a:off x="1979280" y="3573000"/>
            <a:ext cx="7927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 flipV="1">
            <a:off x="4211640" y="1267560"/>
            <a:ext cx="5292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16"/>
          <p:cNvCxnSpPr/>
          <p:nvPr/>
        </p:nvCxnSpPr>
        <p:spPr>
          <a:xfrm flipH="1" flipV="1">
            <a:off x="1691640" y="2636640"/>
            <a:ext cx="11516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2643120" y="1643040"/>
            <a:ext cx="4484880" cy="257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609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9" descr=""/>
          <p:cNvPicPr/>
          <p:nvPr/>
        </p:nvPicPr>
        <p:blipFill>
          <a:blip r:embed="rId1"/>
          <a:stretch/>
        </p:blipFill>
        <p:spPr>
          <a:xfrm>
            <a:off x="-49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14200" y="214200"/>
            <a:ext cx="8929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ударных и безударных слогов. Ритм придаёт музыкальность стихам.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− это созвучное окончание строк стихотворения. 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дает стихотворению мелодичность и законченность.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Khmer UI"/>
              </a:rPr>
              <a:t>1 апреля Международный день п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214200" y="0"/>
            <a:ext cx="8572680" cy="81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ечевая ра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кукушонку купила капюшо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пюшоне кукушонок смешон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 сорок в короткий срок съели сыр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ей торопился, да маленький уродил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ронила ворона ворон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85680" y="-2556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_BentTitulDcFr"/>
              </a:rPr>
              <a:t>Отгадай-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179280" y="423720"/>
            <a:ext cx="3673440" cy="2880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457200" y="3857760"/>
            <a:ext cx="41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ка-невелич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и име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одить не уме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т сделать шаж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прыжо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ша Чёрный. Стихотворение «Воробей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887640" cy="493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познакомимся с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узнаем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будем учиться 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сатель написал много стихов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 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G:\Учитель года\Мой урок\11edd3d3564cc58c46e1b6dfc21e304ca99a270a.jpg"/>
          <p:cNvPicPr/>
          <p:nvPr/>
        </p:nvPicPr>
        <p:blipFill>
          <a:blip r:embed="rId2"/>
          <a:stretch/>
        </p:blipFill>
        <p:spPr>
          <a:xfrm>
            <a:off x="214200" y="1143000"/>
            <a:ext cx="857268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1. 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609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-252360" y="-333360"/>
            <a:ext cx="9396360" cy="7327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BosaNovaDcFr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Ю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быстрый, увертлив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исе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лкие стеклянные цветные              бусинки, зёрнышки со сквозным отверс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ро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отдельно, не вме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кос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е пря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ичуж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т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ьюш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рышка, которая закрывает           печную трубу для сохранения теп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0" y="0"/>
            <a:ext cx="4857840" cy="2792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"/>
          <p:cNvPicPr/>
          <p:nvPr/>
        </p:nvPicPr>
        <p:blipFill>
          <a:blip r:embed="rId3"/>
          <a:stretch/>
        </p:blipFill>
        <p:spPr>
          <a:xfrm>
            <a:off x="2928960" y="2786040"/>
            <a:ext cx="5929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5609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5:09:44Z</dcterms:created>
  <dc:creator>Пользователь</dc:creator>
  <dc:description/>
  <dc:language>en-US</dc:language>
  <cp:lastModifiedBy>user</cp:lastModifiedBy>
  <dcterms:modified xsi:type="dcterms:W3CDTF">2025-11-24T01:20:31Z</dcterms:modified>
  <cp:revision>60</cp:revision>
  <dc:subject/>
  <dc:title>Презентация PowerPoint</dc:title>
</cp:coreProperties>
</file>